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89.xml.rels" ContentType="application/vnd.openxmlformats-package.relationships+xml"/>
  <Override PartName="/ppt/notesSlides/_rels/notesSlide1.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2959-2ED1-474F-B685-C4D1447B6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3380-8462-4762-8FE2-C6A6576E7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94D1-EF37-4CA3-94C8-38D08CEA6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0B0A00-ACE8-4CD2-8B19-DD0C0C1F5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389F6-6E53-41D2-AE04-0A637A9B3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FF1579-36DB-4401-84B0-6DAD9853E1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C4644A-217F-4767-A015-A747A3356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EC126-686F-48D6-A76E-66626263F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872C1-FEA0-4484-A46E-FCF2AE96E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12B75-3421-4C7A-8849-E2F68C949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13EFD-E7A6-4CD6-872F-84C959F8A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EC087-AF6A-48E6-9BDC-18181563C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1A6B4-A9FC-4FE2-BA32-AF6A0A665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D7CA5-E4B3-431B-9AAC-F4369770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8F4F0E-AA96-4365-A3E2-28A0A04E1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7C0A-C96C-46B7-BF38-4D984D489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7C55-3DED-4077-8098-3423F21C1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E9947-4D9B-499C-BA44-FB7A244B9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C4647-E5C1-41B3-884A-6EA6D7066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58B24-FD3B-4392-8523-135AE3B95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391885-F3D3-429E-A719-D5FB9DE70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8C9187-4AFC-4E86-BCB2-C67A68604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C70647-C275-41C6-8EF6-1820BCFD4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2A3A09-82DB-4609-8118-E7CB4CD3B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3C6A3-B394-4C74-B994-36E77F395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D3043-1FE3-4D1C-944F-35D41A8A2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0A9B1-54B4-41E1-A4B6-70D1250C26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089F-9DAC-4AA5-B794-1D22BFD84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70F1-9B04-4F43-AE69-A355B1B3F7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2FF7-FCF9-46D1-AF6E-D414092CA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view of Lectures 1-21</a:t>
            </a:r>
            <a:endParaRPr b="0" lang="en-US" sz="50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lIns="90360" rIns="90360" tIns="44280" bIns="44280" anchor="t">
            <a:no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2</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B4C2-7CD7-4C73-96B0-EFB1EEC8C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ftware Defects - 1</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gs can have a wide variety of effects, with varying levels of inconvenience to the user of the software. Some bugs have only a subtle effect on the program’s functionality, and may thus lie undetected for a long time. More serious bugs may cause the software to crash or freeze leading to a denial of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FA04-44D3-4DED-9FF2-F76803338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ftware Defects - 2</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qualify as security bugs and might for example enable a malicious user to bypass access controls in order to obtain unauthorized privile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EA42-F906-4E98-B0D1-B0274DF57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ftware Defects - 3</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s of bugs may be extremely serio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6, the European Space Agency’s US $1 billion prototype </a:t>
            </a:r>
            <a:r>
              <a:rPr b="0" lang="en-US" sz="3200" spc="-1" strike="noStrike">
                <a:solidFill>
                  <a:srgbClr val="0000cc"/>
                </a:solidFill>
                <a:latin typeface="Arial"/>
              </a:rPr>
              <a:t>Arian 5</a:t>
            </a:r>
            <a:r>
              <a:rPr b="0" lang="en-US" sz="3200" spc="-1" strike="noStrike">
                <a:solidFill>
                  <a:srgbClr val="000000"/>
                </a:solidFill>
                <a:latin typeface="Arial"/>
              </a:rPr>
              <a:t> rocket was destroyed less than a minute after launch, due a bug in the on-board guidance compute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F239-2B39-467B-8D74-A2F7A8E77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ftware Defects - 4</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une 1994, a Royal Air Force </a:t>
            </a:r>
            <a:r>
              <a:rPr b="0" lang="en-US" sz="3200" spc="-1" strike="noStrike">
                <a:solidFill>
                  <a:srgbClr val="0000cc"/>
                </a:solidFill>
                <a:latin typeface="Arial"/>
              </a:rPr>
              <a:t>Chinook</a:t>
            </a:r>
            <a:r>
              <a:rPr b="0" lang="en-US" sz="3200" spc="-1" strike="noStrike">
                <a:solidFill>
                  <a:srgbClr val="000000"/>
                </a:solidFill>
                <a:latin typeface="Arial"/>
              </a:rPr>
              <a:t> crashed into the Mull of Kintyre, killing 29 people. An investigation uncovered sufficient evidence to convince that it may have been caused by a software bug in the aircraft’s engine control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7509-B693-42FC-A803-87245A9E3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Software Defect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commi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omi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clarity and ambigu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speed or capa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8DB8-063A-4C69-A37F-AB15EE151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Origins</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Requiremen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Desig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Source cod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User Document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due to “Bad fixes” </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Data and Tabl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Test C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022C-8652-4F81-8405-3732AF04C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Elimination Strategie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defect prevention</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s of defect removal efficiency</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te defect prediction before the project begin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te defect tracking during development</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quality measurement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ing high levels of user-satisf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CC60-6266-4B6F-B62B-68311FD4E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Prevention and Removal</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defect prevention and removal techniques are used by the “best-in-the-class” compani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evention is very difficult to understand, study, and quantify. We’ll talk about defect prevent in a later lectur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non-test and testing defect removal techniques must be applied</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CBE6-C7FE-4D45-9563-286D8587A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ilosophy of Defect Prevention - 1</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uman misconceptions are the error sources, education and training can help us remove these error sourc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mprecise designs and implementations that deviate from product specifications or design intentions are the causes for faults, formal methods can help us prevent such dev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1726-FFF8-4AC6-AF99-B458CB975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ilosophy of Defect Prevention - 2</a:t>
            </a:r>
            <a:endParaRPr b="0" lang="en-US" sz="40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n-conformance to selected processes or standards is the problem that leads to fault injections, then process conformance or standard enforcement can help use prevent the injection of related faul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ertain tools or technologies can reduce fault injections under similar environments, they should be adop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are going to review the last twenty one lectures.  Obviously, it is a very difficult task to cover that much material in one le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ll try to mention main points discussed in the last twenty one lectures</a:t>
            </a:r>
            <a:endParaRPr b="0" lang="en-US" sz="3200" spc="-1" strike="noStrike">
              <a:solidFill>
                <a:srgbClr val="000000"/>
              </a:solidFill>
              <a:latin typeface="Arial"/>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620D-A88E-4C48-8D58-A78BA62F2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8969-4FE5-4334-A825-05DE04FF7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Defect Removal</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fault detection and removal</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bservation and fault remo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D88A-5387-41A5-89A0-AA3C7CB21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 Causes of Poor Software Quality - 1</a:t>
            </a:r>
            <a:endParaRPr b="0" lang="en-US" sz="32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training of managers and sta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defect and cost measur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schedule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E5F1-3ADC-47FC-BF98-04541303B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ot Causes of Poor Software Quality - 2</a:t>
            </a:r>
            <a:endParaRPr b="0" lang="en-US" sz="32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defect remov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iguous and creeping requirements and design (</a:t>
            </a:r>
            <a:r>
              <a:rPr b="0" i="1" lang="en-US" sz="3200" spc="-1" strike="noStrike">
                <a:solidFill>
                  <a:srgbClr val="000000"/>
                </a:solidFill>
                <a:latin typeface="Arial"/>
              </a:rPr>
              <a:t>feature race &amp; gimmick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4E9A-EFA1-440C-8C8E-F6E1E6DB5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Attributes</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ttributes set is a way to represent customer quality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 current and prospective customers about their definition of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quality assurance program based on the requirements of your custo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D19C-EBEC-4987-ACAC-96371AA42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Quality Attribute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pecific quality attrib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pecific quality attrib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6D05-8513-415F-ABE3-74E9AB7CE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ecific Attributes - 1</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toleranc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frequency</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EE95-BBB3-446F-BD2F-71FFF09E5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ecific Attributes - 2</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impact</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aging</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versus reliability</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C28A-2017-458F-8164-EAB1CC07E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pecific Attributes</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and sup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pro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7107-FAC4-44B0-86A3-299C8252D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Components of</a:t>
            </a:r>
            <a:br>
              <a:rPr sz="4400"/>
            </a:br>
            <a:r>
              <a:rPr b="0" lang="en-US" sz="4400" spc="-1" strike="noStrike">
                <a:solidFill>
                  <a:srgbClr val="000000"/>
                </a:solidFill>
                <a:latin typeface="Arial"/>
              </a:rPr>
              <a:t>Software Quality Improvement</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s in total defect potentials using methods of defect preven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s in cumulative removal efficiency level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D67D-A87D-4722-A416-382351C53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 - 1</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company, which wants to establish a reputation for producing high quality software, must establish a Software Quality Assurance (SQA) Group within the compan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oups must be funded properly and management must pay attention to the reports and presentations made by this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CDDB-66D9-4936-A742-4A8E57DDA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 1</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 it relates to all aspects of software (requirements / design / code / tests / documents / trai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efin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is somewhat like the concept of beauty. Each of us has a strong opinion about what constitutes beauty, and we recognize it when we see it. But when asked to explain exactly why we regard an object as beautiful, it is hard to put the factors into word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0297-3D2F-474D-BA33-A50BF333E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 - 2</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 report directly to the line- management and not to the project management</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nel of the SQA group must work with the project management team, and vice versa to produce high quality software for the company – which is the ultimate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3FD5-53EF-4F56-A86D-733AE626B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1</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of an SQA plan for a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the development of the project’s software process descrip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software engineering activities to verify compliance with the defined softwar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8C16-C6E3-497F-9C9A-9A1D83565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2</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of designed software work products to verify compliance with those defined as part of the software process</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0CAB-1FDB-43A8-A4EE-0D80718ED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3</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deviations in software work and work products are documented and handled according to a documented proced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y noncompliance and reports to senior management</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8670-E1CD-4761-A10E-12A51AA1E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Plan - 1</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 to be performed</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s and reviews to be performed</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that are applicable to the project</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for error reporting and tracking</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4BB3-CFB8-41BC-A81E-A3FB49D85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Plan - 2</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to be produced by the SQA grou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feedback provided to the software project t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EBFF-AF12-4499-BCCB-E9813A560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osts of Software Quality</a:t>
            </a:r>
            <a:endParaRPr b="0" lang="en-US" sz="5000" spc="-1" strike="noStrike">
              <a:solidFill>
                <a:srgbClr val="000000"/>
              </a:solidFill>
              <a:latin typeface="Arial"/>
            </a:endParaRPr>
          </a:p>
        </p:txBody>
      </p:sp>
      <p:sp>
        <p:nvSpPr>
          <p:cNvPr id="219"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1A71-0751-4BE4-AF10-04515CF19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Economics of Software Quality</a:t>
            </a:r>
            <a:endParaRPr b="0" lang="en-US" sz="5000" spc="-1" strike="noStrike">
              <a:solidFill>
                <a:srgbClr val="000000"/>
              </a:solidFill>
              <a:latin typeface="Arial"/>
            </a:endParaRPr>
          </a:p>
        </p:txBody>
      </p:sp>
      <p:sp>
        <p:nvSpPr>
          <p:cNvPr id="222"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0119-5654-4F8F-97AA-D1DEDB54E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1</a:t>
            </a:r>
            <a:endParaRPr b="0" lang="en-US" sz="36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shorter development schedules than low quality applications because they do not get hung up in integration and testing due to excessive defect levels</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6C93-5385-4F69-81E8-B378550F9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2</a:t>
            </a:r>
            <a:endParaRPr b="0" lang="en-US" sz="3600" spc="-1" strike="noStrike">
              <a:solidFill>
                <a:srgbClr val="000000"/>
              </a:solidFill>
              <a:latin typeface="Arial"/>
            </a:endParaRPr>
          </a:p>
        </p:txBody>
      </p:sp>
      <p:sp>
        <p:nvSpPr>
          <p:cNvPr id="228"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lower development and maintenance costs than low quality applications.  This is because the cumulative costs of finding and fixing bugs is often the major cost driver for software project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6AAF-19DE-4E2D-87D5-A1738CEBB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 2</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software quality characteristics can be identif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or undesirable characteristics can also be ident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5C38-7583-4CBA-BAF2-621AC8553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3</a:t>
            </a:r>
            <a:endParaRPr b="0" lang="en-US" sz="36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better reliability levels and longer mean times to failure than low quality appl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commercial software packages have larger market shares than low quality commercial software packages</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AE4F-D667-4E0C-82A5-E155CE83E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4</a:t>
            </a:r>
            <a:endParaRPr b="0" lang="en-US" sz="3600" spc="-1" strike="noStrike">
              <a:solidFill>
                <a:srgbClr val="000000"/>
              </a:solidFill>
              <a:latin typeface="Arial"/>
            </a:endParaRPr>
          </a:p>
        </p:txBody>
      </p:sp>
      <p:sp>
        <p:nvSpPr>
          <p:cNvPr id="234"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chieves better user-satisfaction ratings than low quality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projects score better on employee morale surveys than do low quality software projects</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F316-B27A-4619-80B3-35CF27B6F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5</a:t>
            </a:r>
            <a:endParaRPr b="0" lang="en-US" sz="36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ality software produced under contract or an outsource agreement has a much lower probability of ending up in court for breach of contract or malpractice litigation than low quality softwa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ality software benefits or augments the performance levels of users, while poor quality tends to degrade worker performance</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EE62-6E0B-4628-9179-9148FDAA8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s of Software Quality - 6</a:t>
            </a:r>
            <a:endParaRPr b="0" lang="en-US" sz="3600" spc="-1" strike="noStrike">
              <a:solidFill>
                <a:srgbClr val="000000"/>
              </a:solidFill>
              <a:latin typeface="Arial"/>
            </a:endParaRPr>
          </a:p>
        </p:txBody>
      </p:sp>
      <p:sp>
        <p:nvSpPr>
          <p:cNvPr id="240"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software can trigger truly massive unplanned expense levels.  Denver airport example</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601E-DCDA-479C-A6C0-D5628C8FC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Measurement Categories </a:t>
            </a:r>
            <a:endParaRPr b="0" lang="en-US" sz="4000" spc="-1" strike="noStrike">
              <a:solidFill>
                <a:srgbClr val="000000"/>
              </a:solidFill>
              <a:latin typeface="Arial"/>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defects or bugs in softw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of software projec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user-satisfaction leve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for software projects where clients can be queried and actually use the software consciously</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5250-0BFB-4F4A-84E4-6DCDBF2B6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1</a:t>
            </a:r>
            <a:endParaRPr b="0" lang="en-US" sz="4400" spc="-1" strike="noStrike">
              <a:solidFill>
                <a:srgbClr val="000000"/>
              </a:solidFill>
              <a:latin typeface="Arial"/>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volumes (by product, by time period, by geographic reg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severity lev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tegories (invalid defects, duplicates, un-duplicatable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origins (i.e., requirements, design, code, documents, or bad fixes)</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5643-B385-4B0D-9E6E-9D4655FDC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2</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iscovery points (i.e., inspections, tests, customer reports,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iciency lev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d data (i.e., defects per function point or per KLO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tive factors (i.e., complexity, creeping requirements, etc.)</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39D2-4DCB-4A40-AA8D-938273EAB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3</a:t>
            </a: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pair speeds or intervals from the first report to the release of the fix</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33E7-DCB5-496B-9C6A-170A48CCA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User-Satisfaction Quality Measurements - 1</a:t>
            </a:r>
            <a:endParaRPr b="0" lang="en-US" sz="44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quality and reliabil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features in the software produc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ease of learn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ease of use</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customer suppor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speed of defect repairs</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814A-3DD7-4E89-A605-34BE61BB0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User-Satisfaction Quality Measurements - 2</a:t>
            </a:r>
            <a:endParaRPr b="0" lang="en-US" sz="4400" spc="-1" strike="noStrike">
              <a:solidFill>
                <a:srgbClr val="000000"/>
              </a:solidFill>
              <a:latin typeface="Arial"/>
            </a:endParaRPr>
          </a:p>
        </p:txBody>
      </p:sp>
      <p:sp>
        <p:nvSpPr>
          <p:cNvPr id="258"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speed of adding new feat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virtues of competitive produ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the value versus the cost of the packag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FE11-F524-4E0F-9E09-8B1D2307B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Definitions - 1</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levels of defects when deployed, ideally approaching zer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eliability, or the capability of running without crashes or strange res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ity of clients with high user-satisfaction when survey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and SQA - 1</a:t>
            </a:r>
            <a:endParaRPr b="0" lang="en-US" sz="4400" spc="-1" strike="noStrike">
              <a:solidFill>
                <a:srgbClr val="000000"/>
              </a:solidFill>
              <a:latin typeface="Arial"/>
            </a:endParaRPr>
          </a:p>
        </p:txBody>
      </p:sp>
      <p:sp>
        <p:nvSpPr>
          <p:cNvPr id="26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unctiona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s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nstrain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engineering process</a:t>
            </a:r>
            <a:endParaRPr b="0" lang="en-US" sz="3200" spc="-1" strike="noStrike">
              <a:solidFill>
                <a:srgbClr val="000000"/>
              </a:solidFill>
              <a:latin typeface="Arial"/>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171F-E720-43B7-BDBE-3A523AB6C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and SQA - 2</a:t>
            </a:r>
            <a:endParaRPr b="0" lang="en-US" sz="4400" spc="-1" strike="noStrike">
              <a:solidFill>
                <a:srgbClr val="000000"/>
              </a:solidFill>
              <a:latin typeface="Arial"/>
            </a:endParaRPr>
          </a:p>
        </p:txBody>
      </p:sp>
      <p:sp>
        <p:nvSpPr>
          <p:cNvPr id="26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n documenting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natural langu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writing requirements</a:t>
            </a:r>
            <a:endParaRPr b="0" lang="en-US" sz="32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DC0A-3A23-4206-BBE8-F2E1E53A0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A097-9ABD-43EA-91DE-707115378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Writing Requirements - 1</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tandard templates for describing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anguage simply, consistently, and concise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agrams appropr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3E8D-18C1-4829-A36C-14AA53FED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Writing Requirements - 2</a:t>
            </a:r>
            <a:endParaRPr b="0" lang="en-US" sz="44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 natural language with other descriptions of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requirements quantitativ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8D34-267A-43EF-B886-AAB0C1BB7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1</a:t>
            </a:r>
            <a:endParaRPr b="0" lang="en-US" sz="44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nly requirement per requirement state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requirements as active senten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use a noun or a definite pronoun when referring to a th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more than one conjunction when writing requirements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954D-1A23-4552-A70A-1473AE451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2</a:t>
            </a: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weak words and phrases. Such words and phrases re generally imprecise and allow the expansion or contraction of requirements beyond their in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1A5B-8063-4EED-9155-4382166F6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Words to be Avoided</a:t>
            </a:r>
            <a:endParaRPr b="0" lang="en-US" sz="40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adequate, and/or, appropriate, as applicable, as appropriate, desirable, efficient, etc., if practical, suitable, timely, typical, when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4106-F66A-48AA-BEC4-AB21A8F62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3</a:t>
            </a: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eeded requirements without specifying how to fulfill th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complete 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tatements that clearly convey i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docu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of requirements docu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custom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gine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test engine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aintenance engine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B8C9-40C0-48F0-8F3D-1BA235BFD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B9FE-7447-4F0A-A9BF-4562E43F5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ty Attributes of Requirements Document - 1</a:t>
            </a:r>
            <a:endParaRPr b="0" lang="en-US" sz="4000" spc="-1" strike="noStrike">
              <a:solidFill>
                <a:srgbClr val="000000"/>
              </a:solidFill>
              <a:latin typeface="Arial"/>
            </a:endParaRPr>
          </a:p>
        </p:txBody>
      </p:sp>
      <p:sp>
        <p:nvSpPr>
          <p:cNvPr id="288"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mbiguo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450E-DE0E-4485-94F1-099E06740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Definitions - 2</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ucture that can minimize “bad fixes” or insertion of new defects during repai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ustomer support when problems do occu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repairs for defects, especially for high-severity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51F3-48F0-44E9-A72E-C64B023C6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ty Attributes of Requirements Document - 2</a:t>
            </a:r>
            <a:endParaRPr b="0" lang="en-US" sz="40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able by custom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independent</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94D2-55C5-4F02-8836-2E1776877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ty Attributes of Requirements Document - 3</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i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sign and SQA</a:t>
            </a:r>
            <a:endParaRPr b="0" lang="en-US" sz="4400" spc="-1" strike="noStrike">
              <a:solidFill>
                <a:srgbClr val="000000"/>
              </a:solidFill>
              <a:latin typeface="Arial"/>
            </a:endParaRPr>
          </a:p>
        </p:txBody>
      </p:sp>
      <p:sp>
        <p:nvSpPr>
          <p:cNvPr id="296"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sign and its importance in fostering quality in the work produc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defect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model and design proces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design model and design proces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design concepts</a:t>
            </a:r>
            <a:endParaRPr b="0" lang="en-US" sz="32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0360-387F-428A-8861-32D24B2C8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3E70-8D8B-474C-9253-13A415C7B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ion</a:t>
            </a:r>
            <a:endParaRPr b="0" lang="en-US" sz="4400" spc="-1" strike="noStrike">
              <a:solidFill>
                <a:srgbClr val="000000"/>
              </a:solidFill>
              <a:latin typeface="Arial"/>
            </a:endParaRPr>
          </a:p>
        </p:txBody>
      </p:sp>
      <p:sp>
        <p:nvSpPr>
          <p:cNvPr id="300"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permits one to concentrate on a problem at some level of generalization without regard to irrelevant low-level details</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is one of the fundamental ways that we as humans cope with complexity</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y Boo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7339-8C22-4B85-9AB9-39064AEA9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Abstraction - 1</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highest level of abstraction, a solution is stated in broad terms using the language of the problem environmen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ower levels of abstraction, a more procedural orientation is taken. Problem-oriented terminology is coupled with implementation-oriented terminology in an effort to state a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A8F3-961A-46DA-AA8E-15377C80F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Abstraction - 2</a:t>
            </a:r>
            <a:endParaRPr b="0" lang="en-US" sz="4400" spc="-1" strike="noStrike">
              <a:solidFill>
                <a:srgbClr val="000000"/>
              </a:solidFill>
              <a:latin typeface="Arial"/>
            </a:endParaRPr>
          </a:p>
        </p:txBody>
      </p:sp>
      <p:sp>
        <p:nvSpPr>
          <p:cNvPr id="30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lowest level of abstraction, the solution is stated in a manner that can be directly implem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8C52-9B81-403B-B687-9A03AEF92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inement - 1</a:t>
            </a:r>
            <a:endParaRPr b="0" lang="en-US" sz="4400" spc="-1" strike="noStrike">
              <a:solidFill>
                <a:srgbClr val="000000"/>
              </a:solidFill>
              <a:latin typeface="Arial"/>
            </a:endParaRPr>
          </a:p>
        </p:txBody>
      </p:sp>
      <p:sp>
        <p:nvSpPr>
          <p:cNvPr id="3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is developed by successively refining levels of procedural detai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erarchy is developed decomposing a macroscopic statement of function in a step-wise fashion until programming language statements are reach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ement is actually a process of e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F23B-3430-491D-AA3D-B5E1952B4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inement - 2</a:t>
            </a:r>
            <a:endParaRPr b="0" lang="en-US" sz="4400" spc="-1" strike="noStrike">
              <a:solidFill>
                <a:srgbClr val="000000"/>
              </a:solidFill>
              <a:latin typeface="Arial"/>
            </a:endParaRPr>
          </a:p>
        </p:txBody>
      </p:sp>
      <p:sp>
        <p:nvSpPr>
          <p:cNvPr id="312"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tendency to move immediately to full detail, skipping the refinement steps.  This leads to errors and omissions and makes the design much mode difficult to review.  Perform stepwise refin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and refinement are complementary concepts</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78E0-AF42-4785-904C-7F8326274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 - 1</a:t>
            </a: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oldest concepts in software desig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s divided into separately named and addressable components, often called, modules, that are integrated to satisfy problem requirements</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F38B-C03A-48BD-AC2C-33DB489D9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 - 2</a:t>
            </a:r>
            <a:endParaRPr b="0" lang="en-US" sz="44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ity is the single attribute of software that allows a program to be intellectually manage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over modularize.  The simplicity of each module will be overshadowed by the complexity of integ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07E3-8258-42DA-BCB1-BD20B1F90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ftware Quality? - 1</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time to market for new produ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market share compared to direct competi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scrap and rework” expen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s and keeps “top-gun” personn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serious li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0AFF-B729-45D5-8426-DF49E34C6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Hiding - 1</a:t>
            </a:r>
            <a:endParaRPr b="0" lang="en-US" sz="44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s should be specified and designed so that information (procedures and data) contained within a module is inaccessible to other modules that have no need for such information</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 means that effective modularity can be achieved by defining a set of independent modules that communicate with one another only that information necessary to achieve a software function</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6631-21EF-4D0C-BC05-78C49AFA9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Hiding - 2</a:t>
            </a: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ion helps to define the procedural (or informational) entities that make up the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 defines and enforces access constraints to both procedural detail within a module and any local data structure used by the modu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EDF7-7028-44F6-8F1D-C2EDAAD3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Hiding - 3</a:t>
            </a:r>
            <a:endParaRPr b="0" lang="en-US" sz="44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st benefits of IH are achieved when modifications are required during testing and later, during software maintena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ata and procedures are hidden from other parts of the software, inadvertent errors introduced modifications are less likely to propagate to other locations within the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F082-4D02-4416-BE89-FFDC1990E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esion - 1</a:t>
            </a: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sion is the qualitative indication of the degree to which a module focuses on just one th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cohesion is a measure of the relative functional strength of a modu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hesive module performs one single task or is focused on one thing</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0BB3-6447-4FAE-9167-41B0ADA21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esion - 2</a:t>
            </a:r>
            <a:endParaRPr b="0" lang="en-US" sz="44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cohesive modules are better, however, mid-range cohesion is accept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nd cohesion is very b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977A-A93C-4FD1-9EDB-EE166233B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pling</a:t>
            </a:r>
            <a:endParaRPr b="0" lang="en-US" sz="4400" spc="-1" strike="noStrike">
              <a:solidFill>
                <a:srgbClr val="000000"/>
              </a:solidFill>
              <a:latin typeface="Arial"/>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ling is a qualitative indication of the degree to which a module is connected to other modules and to the outside world</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coupling is a measure of interconnection among modules in a software structure</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se coupling is better. Simple connectivity is easier to understand and less prone to “ripple effect”</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0112-C31C-4C42-B667-975310A3D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ty Practices for General-Purpose Programming - 1</a:t>
            </a:r>
            <a:endParaRPr b="0" lang="en-US" sz="4000" spc="-1" strike="noStrike">
              <a:solidFill>
                <a:srgbClr val="000000"/>
              </a:solidFill>
              <a:latin typeface="Arial"/>
            </a:endParaRPr>
          </a:p>
        </p:txBody>
      </p:sp>
      <p:sp>
        <p:nvSpPr>
          <p:cNvPr id="3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highest-level programming language pos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tegrated development environ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a coding standard that prevents common types of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93A2-18BB-48C4-9C68-A1A49A0ED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ty Practices for General-Purpose Programming - 2</a:t>
            </a:r>
            <a:endParaRPr b="0" lang="en-US" sz="4000" spc="-1" strike="noStrike">
              <a:solidFill>
                <a:srgbClr val="000000"/>
              </a:solidFill>
              <a:latin typeface="Arial"/>
            </a:endParaRPr>
          </a:p>
        </p:txBody>
      </p:sp>
      <p:sp>
        <p:nvSpPr>
          <p:cNvPr id="3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user interfaces and high-risk compon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critical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Reviews?</a:t>
            </a:r>
            <a:endParaRPr b="0" lang="en-US" sz="4400" spc="-1" strike="noStrike">
              <a:solidFill>
                <a:srgbClr val="000000"/>
              </a:solidFill>
              <a:latin typeface="Arial"/>
            </a:endParaRPr>
          </a:p>
        </p:txBody>
      </p:sp>
      <p:sp>
        <p:nvSpPr>
          <p:cNvPr id="344"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r meeting during which a work product, or a set of work products, is presented to project personnel, managers, users, or other interested parties for comment or approval.  Types include code review, design review, formal qualification review, requirements review, test readiness review</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1D86-ADAA-43EE-8CBB-357B200E8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views</a:t>
            </a:r>
            <a:endParaRPr b="0" lang="en-US" sz="4400" spc="-1" strike="noStrike">
              <a:solidFill>
                <a:srgbClr val="000000"/>
              </a:solidFill>
              <a:latin typeface="Arial"/>
            </a:endParaRPr>
          </a:p>
        </p:txBody>
      </p:sp>
      <p:sp>
        <p:nvSpPr>
          <p:cNvPr id="34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through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a:t>
            </a:r>
            <a:endParaRPr b="0" lang="en-US" sz="3200" spc="-1" strike="noStrike">
              <a:solidFill>
                <a:srgbClr val="000000"/>
              </a:solidFill>
              <a:latin typeface="Arial"/>
            </a:endParaRPr>
          </a:p>
        </p:txBody>
      </p:sp>
      <p:sp>
        <p:nvSpPr>
          <p:cNvPr id="3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8BA5-DBD7-4A2F-A187-FB2FD1A01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3329-897C-4F56-8369-2E45104C3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ftware Quality? - 2</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serious operating failures and dela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es the risk of bankruptcy or business failures, which may be attributed directly to poor quality or poor software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2C4C-9706-4415-A3AD-B0F21D378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1</a:t>
            </a:r>
            <a:endParaRPr b="0" lang="en-US" sz="4400" spc="-1" strike="noStrike">
              <a:solidFill>
                <a:srgbClr val="000000"/>
              </a:solidFill>
              <a:latin typeface="Arial"/>
            </a:endParaRPr>
          </a:p>
        </p:txBody>
      </p:sp>
      <p:sp>
        <p:nvSpPr>
          <p:cNvPr id="3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pection is a rigorous team review of a work product by peers of the producer of the work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team will vary with the characteristics of the work product being inspected; e.g., size, ty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Inspections - 2</a:t>
            </a:r>
            <a:endParaRPr b="0" lang="en-US" sz="4400" spc="-1" strike="noStrike">
              <a:solidFill>
                <a:srgbClr val="000000"/>
              </a:solidFill>
              <a:latin typeface="Arial"/>
            </a:endParaRPr>
          </a:p>
        </p:txBody>
      </p:sp>
      <p:sp>
        <p:nvSpPr>
          <p:cNvPr id="35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purpose is to find defects, recording as a basis for analysis on the current project and for historical reference and for improvement for future projects, analyzing them, and initiating rework to correct the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fault detection and remov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FF88-07EC-4973-B66A-56CE63F3F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F66E-37D3-4CE5-BF93-54FB8B94F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3</a:t>
            </a:r>
            <a:endParaRPr b="0" lang="en-US" sz="4400" spc="-1" strike="noStrike">
              <a:solidFill>
                <a:srgbClr val="000000"/>
              </a:solidFill>
              <a:latin typeface="Arial"/>
            </a:endParaRPr>
          </a:p>
        </p:txBody>
      </p:sp>
      <p:sp>
        <p:nvSpPr>
          <p:cNvPr id="3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most effective when performed immediately after the work product is complete, but they can be held any time the work product is deemed ready for insp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73CE-CFFE-4160-94C5-D920234DD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4</a:t>
            </a:r>
            <a:endParaRPr b="0" lang="en-US" sz="4400" spc="-1" strike="noStrike">
              <a:solidFill>
                <a:srgbClr val="000000"/>
              </a:solidFill>
              <a:latin typeface="Arial"/>
            </a:endParaRPr>
          </a:p>
        </p:txBody>
      </p:sp>
      <p:sp>
        <p:nvSpPr>
          <p:cNvPr id="360"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critical reading and analysis of software code or other software artifacts, such as designs, product specifications, test plans, etc</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typically conducted by multiple human inspectors, through some coordination process. Multiple inspection phases or sessions may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F924-2A38-4FAD-9432-0C3FCBC42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5</a:t>
            </a:r>
            <a:endParaRPr b="0" lang="en-US" sz="4400" spc="-1" strike="noStrike">
              <a:solidFill>
                <a:srgbClr val="000000"/>
              </a:solidFill>
              <a:latin typeface="Arial"/>
            </a:endParaRPr>
          </a:p>
        </p:txBody>
      </p:sp>
      <p:sp>
        <p:nvSpPr>
          <p:cNvPr id="36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are detected directly in inspection by human inspectors, either during their individual inspections or various types of group s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faults need to be removed as a result of the inspection process, and their removal also needs to be ver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7671-C371-45DB-A8E0-7AA660D30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6</a:t>
            </a:r>
            <a:endParaRPr b="0" lang="en-US" sz="4400" spc="-1" strike="noStrike">
              <a:solidFill>
                <a:srgbClr val="000000"/>
              </a:solidFill>
              <a:latin typeface="Arial"/>
            </a:endParaRPr>
          </a:p>
        </p:txBody>
      </p:sp>
      <p:sp>
        <p:nvSpPr>
          <p:cNvPr id="36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processes vary, but typically include some planning and follow-up activities in addition to the core inspection activit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by Michael Fagan at IBM and were first reported in public domain in 19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DED-82CC-49D3-8035-16F7ECF4B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7</a:t>
            </a: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remove software defects at reduced co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enable us to remove defects early in the software life cycle, and it always cheaper to remove defects earlier in than later in the software life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Inspections Process</a:t>
            </a:r>
            <a:endParaRPr b="0" lang="en-US" sz="4400" spc="-1" strike="noStrike">
              <a:solidFill>
                <a:srgbClr val="000000"/>
              </a:solidFill>
              <a:latin typeface="Arial"/>
            </a:endParaRPr>
          </a:p>
        </p:txBody>
      </p:sp>
      <p:sp>
        <p:nvSpPr>
          <p:cNvPr id="371" name=""/>
          <p:cNvSpPr txBox="1"/>
          <p:nvPr/>
        </p:nvSpPr>
        <p:spPr>
          <a:xfrm>
            <a:off x="457200" y="1980720"/>
            <a:ext cx="8229600" cy="3886200"/>
          </a:xfrm>
          <a:prstGeom prst="rect">
            <a:avLst/>
          </a:prstGeom>
          <a:noFill/>
          <a:ln w="0">
            <a:noFill/>
          </a:ln>
        </p:spPr>
        <p:txBody>
          <a:bodyPr anchor="t">
            <a:normAutofit fontScale="82000"/>
          </a:bodyPr>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and scheduling</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meeting</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meeting</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ork</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meeting</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cording and reports</a:t>
            </a:r>
            <a:endParaRPr b="0" lang="en-US" sz="2800" spc="-1" strike="noStrike">
              <a:solidFill>
                <a:srgbClr val="000000"/>
              </a:solidFill>
              <a:latin typeface="Arial"/>
            </a:endParaRPr>
          </a:p>
          <a:p>
            <a:pPr marL="281160" indent="-2811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process monitoring</a:t>
            </a:r>
            <a:endParaRPr b="0" lang="en-US" sz="2800" spc="-1" strike="noStrike">
              <a:solidFill>
                <a:srgbClr val="000000"/>
              </a:solidFill>
              <a:latin typeface="Arial"/>
            </a:endParaRPr>
          </a:p>
          <a:p>
            <a:pPr marL="281160" indent="-2811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CC96-7FFD-4318-8027-E90C5385B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Roles</a:t>
            </a:r>
            <a:endParaRPr b="0" lang="en-US" sz="4400" spc="-1" strike="noStrike">
              <a:solidFill>
                <a:srgbClr val="000000"/>
              </a:solidFill>
              <a:latin typeface="Arial"/>
            </a:endParaRPr>
          </a:p>
        </p:txBody>
      </p:sp>
      <p:sp>
        <p:nvSpPr>
          <p:cNvPr id="37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Auth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or</a:t>
            </a:r>
            <a:endParaRPr b="0" lang="en-US" sz="3200" spc="-1" strike="noStrike">
              <a:solidFill>
                <a:srgbClr val="000000"/>
              </a:solidFill>
              <a:latin typeface="Arial"/>
            </a:endParaRPr>
          </a:p>
        </p:txBody>
      </p:sp>
      <p:sp>
        <p:nvSpPr>
          <p:cNvPr id="3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B9FA-B1DD-4673-B5A0-975F626BC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2286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al Issues in Software Inspections</a:t>
            </a:r>
            <a:endParaRPr b="0" lang="en-US" sz="4400" spc="-1" strike="noStrike">
              <a:solidFill>
                <a:srgbClr val="000000"/>
              </a:solidFill>
              <a:latin typeface="Arial"/>
            </a:endParaRPr>
          </a:p>
        </p:txBody>
      </p:sp>
      <p:sp>
        <p:nvSpPr>
          <p:cNvPr id="3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F7DD-6F32-4D49-A604-7CF39F1D2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045B-4E21-4345-A1D3-1C5E3FD8A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oftware Defect?</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ftware defect is an error, flaw, mistake, failure, or fault in software that prevents it from behaving as intended (e.g., producing an incorrect or unexpected resul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fects are also known as software errors or software bu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44:03Z</dcterms:modified>
  <cp:revision>243</cp:revision>
  <dc:subject/>
  <dc:title>SQA Reviews</dc:title>
</cp:coreProperties>
</file>